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19B6-F846-49A7-A631-171AC449C7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F30A2-F66A-4154-B8FC-47F0BE9F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36C72C-7EFD-4DE7-BCA9-E64A9761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A3B1603-D95E-4A64-9F65-18AECFC8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4DF0C4-A3F1-434E-AE2D-6D6A80C9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DC4425-240A-4C0B-B8DA-81C5F04C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926E22-37B0-4F3E-8A24-1E3A44CB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CE8C96-B078-4551-8F60-635F3350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2418B6-0958-4893-AFCC-AEDF46CF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01211A-36AE-4605-86AF-9AB9EB23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0801A0-D2BB-4CE5-B721-472339F3F9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E03BD-1173-4266-B564-15B48A24E2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044F-6355-4AF8-8636-30AF806C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551B7-D550-44C8-9DE6-F22AFE8F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4CDC6-293F-4D8D-8446-4B26207B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287AF-E0D4-4B6E-8783-A5C96F94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18B7F-D970-4E87-8134-7A96D928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2406C-A5F5-4EC7-8D73-233C53C3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1FB46-0BBE-4D91-B9A3-6DAF0190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10193-8198-483E-A86D-5EEC7009A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D7420-7E89-4C03-957B-712D05C3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C3071-C983-4952-9FB9-34262E15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59EE2-BE65-4D41-99A9-B3A9E962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9307-4B25-47BA-80D1-C176C1A5A7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FF711-6F55-4EB7-8C76-3C4DB075BD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88BA5-F6E4-4379-B5A7-DF9E568BCE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CE15F8-1534-426D-B3C9-FACB1DD3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C8BFEA-B5CF-433D-994C-606842CC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8003CF-AC25-4F29-82F1-4E870682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3239E4-F869-4DFF-BD51-03029457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1F3E2D-9443-450F-8012-A83F8722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526733-1310-4A01-8C7D-412CA86A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9CDAE0-5556-42E9-AB32-77972946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02A4D7-77F7-42F8-B7AD-BB8553A7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A25AA-4AF1-4B7B-A889-DA1A01B58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79BCDF-5A70-4925-8362-B5B02FD6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53C811-88BD-427C-8B60-836841B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3FBFA0-04BE-4D00-9224-37B49EC631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890E8C-F225-405C-87A8-AFA71600E4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C05000-802A-4B71-A717-018C1E7C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C28CD-B99C-48A9-BDD9-6EEAFB3A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C810D9-2096-472C-914E-6796361E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EDAA5-ADF1-4FFC-8461-DCAAC37B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2913C3-DE84-46AB-867D-ED009FA8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913690-0E64-4EC1-A44B-4BA675D8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9975E-D261-48F7-9B56-73C64481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7038C4-4AA2-4D3B-9CBE-E9C4B2A1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70A80-B6CC-4E0A-B1AC-E106E4121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57F3AC-99F5-4049-93CB-296FCFBDA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82E8B8-F26D-479F-A5A3-5EE19A7C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1ACAC-352C-42BB-83BE-D21DC84527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3573B-4D87-424C-BF0F-695F7D33A0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F650B-15AF-4759-A473-E7FAE853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EF767-CF33-4603-9185-86900151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F04FD-DC3F-4BC3-8C6B-472927F9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901F9-57E1-49E9-8051-225EF2C2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76DD3-EDE9-4CED-8794-0769C166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C6CA6-1AA1-44E0-A79D-AE52F5674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38FAF-8DD0-4E25-B68B-7F1ED46B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81792-FA14-4B65-AA45-091C01A0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6A39E-BC6A-404A-89B3-52C8A6C7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452B2-3D2E-4AEB-99F7-FC30381B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D7D37-7020-4F01-A5CC-3583C2ED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26006-E17D-43D9-B803-CC88D8B78E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4EF28-6868-4156-A859-B3F65F3B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C2A2F-9919-48B2-A288-578651A4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48CD0B-4621-4364-8295-BC37F5BB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7D413-1B45-4D71-8174-4761587A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18C53-2053-47F5-AD1B-77D61CE2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00B51-B1BC-4287-90FE-B756EFDB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B673F-4E8A-4669-9741-4B659526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B8BCC-23C6-49B0-BCA9-5DF0BE7C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40A61-4FAF-4DDE-B444-6BFBF942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57B30-482D-4FA7-A8B8-C4C26C58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384BA-E2F8-45CC-B616-EA6CE4F0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6BCF1-F187-4321-98AF-31D5C149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51C0F-C7F0-4D6E-819F-2C668E65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F1E4E-788D-4F80-81B6-E8849501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D5CB0-A3F5-48D7-B438-5F788792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B7519-0609-44B2-B983-AD924427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F252A-300F-4619-A7F1-60B80D31A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BCC02-8F1A-4B55-B815-AD1315C0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65E7A-3718-477A-B500-C1D5B37D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4F8BE-C4E8-4949-8A86-890B1783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BD357-7DB1-4D0D-9D39-E7F64787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B5939-1F92-4C11-802F-4624BBA9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3C00A-7A08-49E5-80A2-DB712F9F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2EF4B-35B3-46EF-B0D5-FAB31A0A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74757-78E5-4CB0-9685-85F2B328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DC3FF-FAC5-4D70-A561-268BDC7B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99F40-A3FB-4D6D-8B07-82A6F385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CF908-AAEB-4426-B148-7079A4E0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3109D-6A64-48D7-A6C1-E7AD07D9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7505D-B318-4DA7-9E57-A6F30078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9B551-0E85-42D0-96C5-74EA69FE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4E354-54A1-41A9-BB9D-A4FF962D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CC18F-9D7A-4375-989A-0B8EB92D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D9A2F-F633-4F7A-8D98-3FCEE6C4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8BCF7-5CF3-4A35-AA08-779B6610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23975-5315-489E-B4AA-30BB02EE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3CD1F-4B35-4885-9F64-D51A3D4D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2340C-688C-43D0-87F0-C219164B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3642E-C3B9-4AFD-9847-E07B6EC8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6B8F3-A6DF-4269-BEA3-A4EC1DBB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8E0421-D75E-44FD-A6FC-F7F37753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D35573-E419-4121-AC66-396C9FAE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F98A64-13C2-4AE0-A5C0-6DAAA908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7F0B9-B11C-4945-BAE6-CF8AF707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7C253A-511C-441D-96CE-DB6AEEE5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AF3F65-F9B4-45B7-8338-BB400888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252D4-E853-40DC-B3EE-7BB64D74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34482-8643-48C6-B7D9-0B6888B6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61176-52D8-41C1-B356-2C559DA4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808F4-BEB6-4370-8653-FD71B795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372FB-35B1-4091-9641-4D0F6409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40F67-6F6C-409D-A1A4-24CF6364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EBCC5-6190-496B-9CF0-79058E5F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8D41A-58E0-4838-B1B5-451AE69C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8B7EC-B5D4-4735-B2F1-75C5E5EAA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AD349C-BE07-45B3-A70F-E5913F48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9D1CBF-2265-4ADC-BB78-B85FC854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14B464-D421-4373-8BB4-01634495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B00C6-BAEC-4370-80FD-55998995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5C9B0-32E7-4043-ABB5-24460F9C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9A12B-B44C-4526-91C7-8137424E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6E2D2-4820-4020-8578-800C1756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7E163-DCA1-4611-85E7-4C2E99E1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F36FCF-6651-4DD6-838C-4DB6047A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9D8FD-E119-42AA-BB8C-EB566AE9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3A524-D7E7-4090-AD3E-AFE559A7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75518-D64D-4567-ADBE-A95DEC3D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21E692-A345-4CFA-882A-63906583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6D8B6-16EF-4DFA-A2A1-7911B797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4F902-B83B-44AD-92E5-4A8D2242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CF4F8-2878-4B1E-BA4F-1F58ABB8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6F22A-E10E-452C-8825-199E2235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BB000-0E7F-480B-B5F2-9207F2AA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6B3D0-9741-4A0A-8E19-020ECEA3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042E17-9639-47FA-A2C1-571C42B8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8C0C2-EC77-444F-B753-D8FB2B36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065F3-A7D9-4240-AF48-E6CF2A1C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540E6-8127-4A72-9C3A-12E88E83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C4F27-3718-4FBE-88C7-C979C1CD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3FDF2-87C6-462D-835D-AB29791B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DF7196-2805-4A16-A338-8AD38FF2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B9DCC-FFC9-4D92-A559-99A26AE5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4C77F-F6C7-4E2E-A835-4880232D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1DCA8B-5A2D-45D0-9907-D6F798F8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36D6BF-06CA-497B-81DF-43BA2CFA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934AC-B51D-4177-BE90-39D0B384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C7F31-4C31-4101-9944-48E72DBD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7A2A9-5BFD-418B-B2DE-52D919AB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B011FA-561B-477E-B8FD-4D456669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065746-0F33-453E-8730-3C69E8C1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56CE3-B0B9-4C98-BFF7-88EF1A0D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960B16-D553-45EA-A066-EB8A538B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0FFCE-0364-497A-B3C5-F5ED0F61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9E4630-196C-4798-9ACF-964212E7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28971-4F52-4273-94FD-4397B829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85D150-9EEE-41BE-B418-5628ED61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08AF3-B04C-4796-B858-BB04B7AC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49BA6-9010-46DA-BD35-45F58ACF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E62AE3-AF17-4AA8-9BF6-87B6790A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631F4-0DFA-47F9-9A19-A5DB884E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92764-C877-47E0-AEE9-7D21585E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FEF4E5-B95A-4C77-8B41-4A8F21A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2A261D-FB91-4CAD-A763-20594FA6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A706E0-95C6-4B27-85B1-D49531E7DE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4C4D0-04B1-4B22-8F7F-A06F9CA7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3929E-9A38-450B-AE14-45FC4F67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4AAEB-D10F-43D9-AAA9-CA9FE6FC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57809-71A1-472E-B85D-7CA495A9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5D2640-A708-4362-9C58-16F1D498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469636-D91C-47EF-995A-3A9913CE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664313-299D-4963-BBF8-AF1A800A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A3DE96-9EE2-4672-819E-23E01F20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2537E-97CE-476F-AB8A-735BEE79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42133-5601-45F2-B8A3-BAF027A8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2B9538-A4F0-446A-AF8A-8291A7E7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4E28FD-524C-4E57-95D2-893C8107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9CDA2A-0F87-48B5-91A5-9407F849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E7FC0-5ABD-449E-8989-B1E85EBF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9EC21F-BB21-4552-8330-48BD49C2B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90BB8F-A191-4E52-93AE-A1942208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B75A8-6DF1-4DBC-A32E-CC233A57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57DBD0-C035-4950-BE29-5344A0FF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0E85DE-4EB4-4A12-A75C-1FA2B08E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F7C2E0-0613-408A-8EC2-2C6B6B99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857059-5E16-4E38-AF6A-206C063E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8C9A52-D1DF-4C95-B1EB-587D01C9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16E8C-071D-412C-AB6C-9A7FFFC0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9A3DA7-258A-45D9-A502-63CCBB41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D9C8C3-8E23-4495-B33E-438F70F7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C5E48-A4A0-496D-9AB0-A51375A8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E66213-0D0A-45FB-A1CA-E94ED552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1807E2-B2C7-4572-88F7-A5C5FC1C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581B6D-5CE9-47CE-B2AE-317FA8E2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F251BE-000C-4726-A389-8E1580A8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19982E-07E8-45A2-A753-D7605789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A5F239-4235-4D1F-AAFB-26763BCA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5D3031-F560-4F90-A0D9-EAEB789E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C85A3-23EA-4B7C-BB0C-601CA794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A624ED-4B4B-4FA8-B601-8D263722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F1D17-5829-4448-87FE-FFAB4BD4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2071A4-731E-46A5-B27A-A0E2E88E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51B05C-D0BD-4C2E-BDEA-D3063B8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95047E-8198-4464-8829-F1DA8890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43B608-BCE6-4B88-AE1A-1528147A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FE273C-B2D2-407D-8572-EA07C32B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CBAB00-D00E-439C-9B4A-024915AF1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AC7E67-7613-4EB8-B38A-B69AD0131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DBCB-6D8F-4CF8-B87E-EA18EDF8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FED15B-CBB0-4C68-8EC7-E6EEC1784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84D00D-A54F-4211-A893-F5DC3829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9282ED-7971-42A8-833F-D7AC5883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AA3AC3-44DE-4FE3-98D2-07B3FC8F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E43E4C-7800-4709-AA63-E1998BEE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79A71-03F8-42A2-A14D-F6E5B3BD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3EFD8E-23E1-4643-AC19-47DBAFE539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A4288-7B5A-4E1A-9C27-AA6FC93E5B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9F0EB-731F-49A3-A40E-3509B79D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8AB11-F33E-49B7-808F-4F2B98A7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F0F3-D8A0-41D1-9D8A-64173D62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B3B1-294D-471F-BE81-7537F0CD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B9CA1-81BF-4941-B2FE-62680D90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02C1E-DA06-452E-9B08-9DA5F09E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70B6-DEE8-45F3-BA36-CC8FB01F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4DD50-3E97-4372-9A8B-BE12AE93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D4F7-2569-43EC-B9E1-1DD3460C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90744-D5C0-4DE4-A933-B549F4D0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9324F-5854-48B1-9E00-70B12AE3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D160-6D14-4AA2-8363-D0E63DCF4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980C8-E007-4981-87C0-0B506F2BB8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F721-D1F5-496C-BBA2-92F751CC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A208D-5839-4F3B-96F5-1C16C937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895086-F117-47EF-B3CF-474F9A79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DF0247-880A-43BE-8693-DD3CD68E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A35FDF-B58D-4B1E-A4F6-BA2B6ED82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31858C-0EAB-41A4-9CAF-D8742316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CFA38-D96E-4285-A419-F64886BB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E8F92-99D6-4E16-82C6-E9320CA4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25307-273E-4547-86F9-FECD9553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152BA-ADD3-4FDF-91A6-266CB31D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890F0-5A0F-4F62-B58D-7C29778D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68554-DE8A-484E-85F2-64E24634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7D8646-6B6D-4C01-A3BC-BA368BAF63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C37A8C-4FC0-4608-81C6-3566C29DE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7A434F-142A-4ADD-A94F-21F2D49D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E746C1-4306-43B2-9585-6E7E770A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469DAC-CAFB-4172-95C3-E5B8C6BB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84382E-F185-40BB-AEF4-21112F49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A5ADEE-F937-4E1D-A3C0-7C1FEAF4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669017-4EE1-4C88-BFDA-FA53BA9A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894CC8-5E1C-4254-8AAB-D183179C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A89C1E-8F9D-4129-9E86-E02BB6FE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3750-94EB-4670-BB61-FAF79DAA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E221B0-1377-497B-9B0C-BCE02513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CFCC0B-D8EA-4119-BF92-A40E7A3B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43242C-3275-40DA-B635-4549A179D2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4191E-57F4-4810-B826-39D97050D3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50D8D-4273-4723-8B8E-F408D24A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D8C18-7932-4F8A-8B21-DBE19C6D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23AA5-E918-4162-BDA0-922B7943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CA460-D78E-4E65-A527-7FE2F918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A88F3-DC23-408C-996F-2E9F0F0B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AF36F-5D89-414C-9750-320F4E68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6A6E5-AC62-40B0-895D-56975B6D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A3341-8283-4274-9725-1EF7DC25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3FF2A-977C-46F9-885C-25C74BCF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321AB-4AF8-4FB4-9887-40529D87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18F56-6560-4107-8944-85A2085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79EB-8368-454B-992E-FA9D847757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C465D-850D-4A1B-885E-72E167A178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296473-A2B6-4F78-9BA5-66D21DAB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818B0-F9F7-47E4-8922-DB234B3B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0B2A5-A87B-4F23-9DDD-AB509AB0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5B3C6-EDA9-48F8-94C6-3B556607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7C12-A64A-4950-B160-C752D3F3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06BEA0-0978-4CEA-93E3-D955532A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33C97-0F4C-40D2-AB36-044FB306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63EB7A-720A-49DD-BFEF-8CA027E4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52248-DCA4-43C7-84BA-17830851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8E87C0-41CB-4A38-A555-30629B98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CCFFEE-EF63-4F96-936E-A694301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E3C06-962C-4A49-9E89-FAFBA1F580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FAF9B3-1EB4-4B31-9CF7-A8E7F39A48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2949BF-1490-46EC-A325-A79D6CE8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9DD749-B85E-48EE-A805-83224EC1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94EF-0ED2-420F-AA19-88D73CD83B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D6C7-B30E-4BEF-A8A7-28055AE171E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0353-B25F-416F-837A-97FFF1600DA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8064-EDF7-4C99-870F-DA85DCB5290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7B30-3E56-41C8-8F70-E81F4072A68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21B1-2481-4B63-A690-73FA7137FC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499F5-E5D5-4CD8-BD56-869AB6CFA8A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9870-34DE-42AF-AE90-2D0A599CE0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ADB7-6A45-4AAB-B0B5-F7E240BF958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2883-5845-4D80-AA1C-D699E4A9C857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C6C1-FEAD-41FD-8594-69267A3DE8D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716B-9631-47E7-BD4B-F10C5EDCC72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CB1F-90AA-4E4A-BCA5-6F1E01640B5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CCF3-FFB9-4600-82AD-2B578EB9FC9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9F26-8238-4E98-B1D3-0EC4ADC6824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63BD-CF2A-44FD-911C-EEFFF1659AC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327A-C2A3-4FE3-A6FD-0DA47C9A464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53EB-2895-4780-B45B-12F995CCA59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9242-5755-45AD-9C95-3D7EB430CF7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F7B4-E6DA-44D7-B73F-2E45833505A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3D25-B373-450D-92DF-122E2BBCD5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B8FE-18B6-4949-8451-59E1A8E2F4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2016-3A6B-4CDA-B948-25B035D3832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99AE-D39E-4C96-9C26-2ABD5D64336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792440" y="267660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0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求 亿 以 内 的</a:t>
            </a:r>
            <a:r>
              <a:rPr b="0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 近 似 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321080" cy="360"/>
            <a:chOff x="2284560" y="2448000"/>
            <a:chExt cx="43210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3210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32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1000" y="1744560"/>
            <a:ext cx="611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数的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9" name="Picture 2" descr="D:\我的文档-桌面-收藏夹\桌面\u=3675400817,3257509417&amp;fm=23&amp;gp=0.jpg"/>
          <p:cNvPicPr/>
          <p:nvPr/>
        </p:nvPicPr>
        <p:blipFill>
          <a:blip r:embed="rId8"/>
          <a:stretch/>
        </p:blipFill>
        <p:spPr>
          <a:xfrm>
            <a:off x="4572000" y="1287360"/>
            <a:ext cx="4554360" cy="2871720"/>
          </a:xfrm>
          <a:prstGeom prst="rect">
            <a:avLst/>
          </a:prstGeom>
          <a:ln w="0">
            <a:noFill/>
          </a:ln>
        </p:spPr>
      </p:pic>
      <p:sp>
        <p:nvSpPr>
          <p:cNvPr id="1010" name="TextBox 7"/>
          <p:cNvSpPr/>
          <p:nvPr/>
        </p:nvSpPr>
        <p:spPr>
          <a:xfrm>
            <a:off x="150840" y="1635120"/>
            <a:ext cx="4572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们班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名同学，有多少人去过万里长城？你们对万里长城有哪些了解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8"/>
          <p:cNvSpPr/>
          <p:nvPr/>
        </p:nvSpPr>
        <p:spPr>
          <a:xfrm>
            <a:off x="214200" y="4357800"/>
            <a:ext cx="89298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长城距今大约有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50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年的历史，长城大约有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万里长。我们班有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8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名同学，去过长城的有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3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1"/>
          <p:cNvSpPr/>
          <p:nvPr/>
        </p:nvSpPr>
        <p:spPr>
          <a:xfrm>
            <a:off x="1020960" y="12240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内容占位符 2"/>
          <p:cNvSpPr/>
          <p:nvPr/>
        </p:nvSpPr>
        <p:spPr>
          <a:xfrm>
            <a:off x="152280" y="64296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光明小学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10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名学生，红华小学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92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名学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6"/>
          <p:cNvSpPr/>
          <p:nvPr/>
        </p:nvSpPr>
        <p:spPr>
          <a:xfrm>
            <a:off x="152280" y="1328760"/>
            <a:ext cx="87156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例如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05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20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下箭头 9"/>
          <p:cNvSpPr/>
          <p:nvPr/>
        </p:nvSpPr>
        <p:spPr>
          <a:xfrm flipV="1">
            <a:off x="1338120" y="3962520"/>
            <a:ext cx="109800" cy="785520"/>
          </a:xfrm>
          <a:prstGeom prst="downArrow">
            <a:avLst>
              <a:gd name="adj1" fmla="val 50000"/>
              <a:gd name="adj2" fmla="val 22734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下箭头 9"/>
          <p:cNvSpPr/>
          <p:nvPr/>
        </p:nvSpPr>
        <p:spPr>
          <a:xfrm flipV="1">
            <a:off x="1519200" y="1828080"/>
            <a:ext cx="109440" cy="785880"/>
          </a:xfrm>
          <a:prstGeom prst="downArrow">
            <a:avLst>
              <a:gd name="adj1" fmla="val 50000"/>
              <a:gd name="adj2" fmla="val 22819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矩形 45061"/>
          <p:cNvSpPr/>
          <p:nvPr/>
        </p:nvSpPr>
        <p:spPr>
          <a:xfrm>
            <a:off x="2423520" y="1330200"/>
            <a:ext cx="91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矩形 45062"/>
          <p:cNvSpPr/>
          <p:nvPr/>
        </p:nvSpPr>
        <p:spPr>
          <a:xfrm>
            <a:off x="2240280" y="2614680"/>
            <a:ext cx="53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尾数上的最高位小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把尾数舍去，改写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45063"/>
          <p:cNvSpPr/>
          <p:nvPr/>
        </p:nvSpPr>
        <p:spPr>
          <a:xfrm>
            <a:off x="2220480" y="3436920"/>
            <a:ext cx="91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45064"/>
          <p:cNvSpPr/>
          <p:nvPr/>
        </p:nvSpPr>
        <p:spPr>
          <a:xfrm>
            <a:off x="1066680" y="4898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尾数的最高位大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把尾数舍去改写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向前一位进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TextBox 3"/>
          <p:cNvSpPr/>
          <p:nvPr/>
        </p:nvSpPr>
        <p:spPr>
          <a:xfrm>
            <a:off x="609480" y="2209680"/>
            <a:ext cx="800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250                 4608                    74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501                 38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4"/>
          <p:cNvSpPr/>
          <p:nvPr/>
        </p:nvSpPr>
        <p:spPr>
          <a:xfrm>
            <a:off x="1447920" y="2247840"/>
            <a:ext cx="1519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5"/>
          <p:cNvSpPr/>
          <p:nvPr/>
        </p:nvSpPr>
        <p:spPr>
          <a:xfrm>
            <a:off x="3809880" y="2247840"/>
            <a:ext cx="1524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6"/>
          <p:cNvSpPr/>
          <p:nvPr/>
        </p:nvSpPr>
        <p:spPr>
          <a:xfrm>
            <a:off x="6477120" y="2247840"/>
            <a:ext cx="1595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Box 7"/>
          <p:cNvSpPr/>
          <p:nvPr/>
        </p:nvSpPr>
        <p:spPr>
          <a:xfrm>
            <a:off x="1447920" y="3200400"/>
            <a:ext cx="1671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Box 8"/>
          <p:cNvSpPr/>
          <p:nvPr/>
        </p:nvSpPr>
        <p:spPr>
          <a:xfrm>
            <a:off x="3809880" y="3200400"/>
            <a:ext cx="1752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≈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6087"/>
          <p:cNvSpPr/>
          <p:nvPr/>
        </p:nvSpPr>
        <p:spPr>
          <a:xfrm>
            <a:off x="3126960" y="1371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省略千位后面的尾数，求近似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2"/>
          <p:cNvGrpSpPr/>
          <p:nvPr/>
        </p:nvGrpSpPr>
        <p:grpSpPr>
          <a:xfrm>
            <a:off x="-63360" y="142920"/>
            <a:ext cx="3244680" cy="525240"/>
            <a:chOff x="-63360" y="142920"/>
            <a:chExt cx="3244680" cy="525240"/>
          </a:xfrm>
        </p:grpSpPr>
        <p:pic>
          <p:nvPicPr>
            <p:cNvPr id="102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87120" y="142920"/>
              <a:ext cx="3094200" cy="52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0" name="组合 4"/>
            <p:cNvGrpSpPr/>
            <p:nvPr/>
          </p:nvGrpSpPr>
          <p:grpSpPr>
            <a:xfrm>
              <a:off x="-63360" y="237600"/>
              <a:ext cx="429840" cy="273240"/>
              <a:chOff x="-63360" y="237600"/>
              <a:chExt cx="429840" cy="273240"/>
            </a:xfrm>
          </p:grpSpPr>
          <p:sp>
            <p:nvSpPr>
              <p:cNvPr id="1031" name="椭圆 11"/>
              <p:cNvSpPr/>
              <p:nvPr/>
            </p:nvSpPr>
            <p:spPr>
              <a:xfrm rot="16200000">
                <a:off x="179280" y="4014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00" y="36468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3" name="椭圆 29"/>
              <p:cNvSpPr/>
              <p:nvPr/>
            </p:nvSpPr>
            <p:spPr>
              <a:xfrm rot="16200000">
                <a:off x="179280" y="27468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4800" y="252000"/>
                <a:ext cx="211680" cy="11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-63360" y="38088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-63360" y="35280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-63360" y="26568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-63360" y="237600"/>
                <a:ext cx="356400" cy="9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39" name="组合 14"/>
          <p:cNvGrpSpPr/>
          <p:nvPr/>
        </p:nvGrpSpPr>
        <p:grpSpPr>
          <a:xfrm>
            <a:off x="1647720" y="723960"/>
            <a:ext cx="5643720" cy="2633760"/>
            <a:chOff x="1647720" y="723960"/>
            <a:chExt cx="5643720" cy="2633760"/>
          </a:xfrm>
        </p:grpSpPr>
        <p:pic>
          <p:nvPicPr>
            <p:cNvPr id="1040" name="Picture 2" descr="D:\我的文档-桌面-收藏夹\桌面\太阳.jpg"/>
            <p:cNvPicPr/>
            <p:nvPr/>
          </p:nvPicPr>
          <p:blipFill>
            <a:blip r:embed="rId8"/>
            <a:stretch/>
          </p:blipFill>
          <p:spPr>
            <a:xfrm>
              <a:off x="4290840" y="1152720"/>
              <a:ext cx="2214720" cy="22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Picture 3" descr="D:\我的文档-桌面-收藏夹\桌面\地球.jpg"/>
            <p:cNvPicPr/>
            <p:nvPr/>
          </p:nvPicPr>
          <p:blipFill>
            <a:blip r:embed="rId9"/>
            <a:stretch/>
          </p:blipFill>
          <p:spPr>
            <a:xfrm>
              <a:off x="2647800" y="2439000"/>
              <a:ext cx="9284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2" name="直接连接符 6"/>
            <p:cNvSpPr/>
            <p:nvPr/>
          </p:nvSpPr>
          <p:spPr>
            <a:xfrm>
              <a:off x="2719080" y="1938240"/>
              <a:ext cx="0" cy="857160"/>
            </a:xfrm>
            <a:prstGeom prst="line">
              <a:avLst/>
            </a:prstGeom>
            <a:ln w="381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16"/>
            <p:cNvSpPr/>
            <p:nvPr/>
          </p:nvSpPr>
          <p:spPr>
            <a:xfrm>
              <a:off x="3504960" y="1938240"/>
              <a:ext cx="0" cy="857160"/>
            </a:xfrm>
            <a:prstGeom prst="line">
              <a:avLst/>
            </a:prstGeom>
            <a:ln w="381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4" name="直接箭头连接符 18"/>
            <p:cNvCxnSpPr/>
            <p:nvPr/>
          </p:nvCxnSpPr>
          <p:spPr>
            <a:xfrm>
              <a:off x="2718720" y="2152800"/>
              <a:ext cx="78660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round/>
              <a:headEnd len="med" type="arrow" w="med"/>
              <a:tailEnd len="med" type="arrow" w="med"/>
            </a:ln>
          </p:spPr>
        </p:cxnSp>
        <p:sp>
          <p:nvSpPr>
            <p:cNvPr id="1045" name="TextBox 21"/>
            <p:cNvSpPr/>
            <p:nvPr/>
          </p:nvSpPr>
          <p:spPr>
            <a:xfrm>
              <a:off x="1647720" y="2653200"/>
              <a:ext cx="10000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方正楷体简体"/>
                </a:rPr>
                <a:t>地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Box 22"/>
            <p:cNvSpPr/>
            <p:nvPr/>
          </p:nvSpPr>
          <p:spPr>
            <a:xfrm>
              <a:off x="6148440" y="2867760"/>
              <a:ext cx="1143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  <a:ea typeface="方正楷体简体"/>
                </a:rPr>
                <a:t>太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Box 23"/>
            <p:cNvSpPr/>
            <p:nvPr/>
          </p:nvSpPr>
          <p:spPr>
            <a:xfrm>
              <a:off x="2290680" y="1366920"/>
              <a:ext cx="1857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方正书宋简体"/>
                  <a:ea typeface="方正书宋简体"/>
                </a:rPr>
                <a:t>12756</a:t>
              </a:r>
              <a:r>
                <a:rPr b="1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Box 15"/>
            <p:cNvSpPr/>
            <p:nvPr/>
          </p:nvSpPr>
          <p:spPr>
            <a:xfrm>
              <a:off x="4433760" y="723960"/>
              <a:ext cx="2214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方正书宋简体"/>
                  <a:ea typeface="方正书宋简体"/>
                </a:rPr>
                <a:t>1389000</a:t>
              </a:r>
              <a:r>
                <a:rPr b="1" lang="zh-CN" sz="28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千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直接连接符 17"/>
            <p:cNvSpPr/>
            <p:nvPr/>
          </p:nvSpPr>
          <p:spPr>
            <a:xfrm>
              <a:off x="6005520" y="1509840"/>
              <a:ext cx="0" cy="857160"/>
            </a:xfrm>
            <a:prstGeom prst="line">
              <a:avLst/>
            </a:prstGeom>
            <a:ln w="381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直接连接符 19"/>
            <p:cNvSpPr/>
            <p:nvPr/>
          </p:nvSpPr>
          <p:spPr>
            <a:xfrm>
              <a:off x="4791240" y="1509840"/>
              <a:ext cx="0" cy="857160"/>
            </a:xfrm>
            <a:prstGeom prst="line">
              <a:avLst/>
            </a:prstGeom>
            <a:ln w="381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1" name="直接箭头连接符 20"/>
            <p:cNvCxnSpPr/>
            <p:nvPr/>
          </p:nvCxnSpPr>
          <p:spPr>
            <a:xfrm>
              <a:off x="4790880" y="1581120"/>
              <a:ext cx="121500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round/>
              <a:headEnd len="med" type="arrow" w="med"/>
              <a:tailEnd len="med" type="arrow" w="med"/>
            </a:ln>
          </p:spPr>
        </p:cxnSp>
      </p:grpSp>
      <p:sp>
        <p:nvSpPr>
          <p:cNvPr id="1052" name="内容占位符 2"/>
          <p:cNvSpPr/>
          <p:nvPr/>
        </p:nvSpPr>
        <p:spPr>
          <a:xfrm>
            <a:off x="320760" y="339084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地球的直径大约是多少万千米？太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21"/>
          <p:cNvSpPr/>
          <p:nvPr/>
        </p:nvSpPr>
        <p:spPr>
          <a:xfrm>
            <a:off x="1468080" y="149400"/>
            <a:ext cx="35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八边形 7"/>
          <p:cNvSpPr/>
          <p:nvPr/>
        </p:nvSpPr>
        <p:spPr>
          <a:xfrm>
            <a:off x="374760" y="851040"/>
            <a:ext cx="5220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组合 4"/>
          <p:cNvGrpSpPr/>
          <p:nvPr/>
        </p:nvGrpSpPr>
        <p:grpSpPr>
          <a:xfrm>
            <a:off x="301680" y="4048200"/>
            <a:ext cx="8308440" cy="970200"/>
            <a:chOff x="301680" y="4048200"/>
            <a:chExt cx="8308440" cy="970200"/>
          </a:xfrm>
        </p:grpSpPr>
        <p:grpSp>
          <p:nvGrpSpPr>
            <p:cNvPr id="1056" name="组合 1"/>
            <p:cNvGrpSpPr/>
            <p:nvPr/>
          </p:nvGrpSpPr>
          <p:grpSpPr>
            <a:xfrm>
              <a:off x="301680" y="4048200"/>
              <a:ext cx="1884240" cy="459720"/>
              <a:chOff x="301680" y="4048200"/>
              <a:chExt cx="1884240" cy="459720"/>
            </a:xfrm>
          </p:grpSpPr>
          <p:sp>
            <p:nvSpPr>
              <p:cNvPr id="1057" name="TextBox 3"/>
              <p:cNvSpPr/>
              <p:nvPr/>
            </p:nvSpPr>
            <p:spPr>
              <a:xfrm>
                <a:off x="406080" y="4048200"/>
                <a:ext cx="177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b0f0"/>
                    </a:solidFill>
                    <a:latin typeface="Arial"/>
                    <a:ea typeface="宋体"/>
                  </a:rPr>
                  <a:t>理解题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缺角矩形 37"/>
              <p:cNvSpPr/>
              <p:nvPr/>
            </p:nvSpPr>
            <p:spPr>
              <a:xfrm>
                <a:off x="301680" y="4168800"/>
                <a:ext cx="215640" cy="215640"/>
              </a:xfrm>
              <a:custGeom>
                <a:avLst/>
                <a:gdLst>
                  <a:gd name="textAreaLeft" fmla="*/ 25200 w 215640"/>
                  <a:gd name="textAreaRight" fmla="*/ 190440 w 215640"/>
                  <a:gd name="textAreaTop" fmla="*/ 25200 h 215640"/>
                  <a:gd name="textAreaBottom" fmla="*/ 190440 h 21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600" y="0"/>
                    </a:moveTo>
                    <a:arcTo wR="3600" hR="3600" stAng="0" swAng="5400000"/>
                    <a:lnTo>
                      <a:pt x="0" y="18000"/>
                    </a:lnTo>
                    <a:arcTo wR="3600" hR="3600" stAng="16200000" swAng="5400000"/>
                    <a:lnTo>
                      <a:pt x="18000" y="21600"/>
                    </a:lnTo>
                    <a:arcTo wR="3600" hR="3600" stAng="10800000" swAng="5400000"/>
                    <a:lnTo>
                      <a:pt x="21600" y="3600"/>
                    </a:lnTo>
                    <a:arcTo wR="3600" hR="3600" stAng="5400000" swAng="5400000"/>
                    <a:close/>
                  </a:path>
                </a:pathLst>
              </a:custGeom>
              <a:solidFill>
                <a:srgbClr val="00b0f0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文本框 3"/>
            <p:cNvSpPr/>
            <p:nvPr/>
          </p:nvSpPr>
          <p:spPr>
            <a:xfrm>
              <a:off x="463320" y="4375800"/>
              <a:ext cx="814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“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大约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表明求的是地球和太阳直径的近似数。要用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四舍五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法把地球和太阳的直径改写成用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万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作单位的近似数，即省略万位后面的数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TextBox 27"/>
          <p:cNvSpPr/>
          <p:nvPr/>
        </p:nvSpPr>
        <p:spPr>
          <a:xfrm>
            <a:off x="579600" y="4000680"/>
            <a:ext cx="34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75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28"/>
          <p:cNvSpPr/>
          <p:nvPr/>
        </p:nvSpPr>
        <p:spPr>
          <a:xfrm>
            <a:off x="4214880" y="4000680"/>
            <a:ext cx="45003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38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900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2" name="直接箭头连接符 30"/>
          <p:cNvCxnSpPr/>
          <p:nvPr/>
        </p:nvCxnSpPr>
        <p:spPr>
          <a:xfrm flipV="1">
            <a:off x="933840" y="4500000"/>
            <a:ext cx="3960" cy="572040"/>
          </a:xfrm>
          <a:prstGeom prst="straightConnector1">
            <a:avLst/>
          </a:prstGeom>
          <a:ln w="38160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063" name="直接箭头连接符 33"/>
          <p:cNvCxnSpPr/>
          <p:nvPr/>
        </p:nvCxnSpPr>
        <p:spPr>
          <a:xfrm flipV="1">
            <a:off x="4951440" y="4426920"/>
            <a:ext cx="2160" cy="572040"/>
          </a:xfrm>
          <a:prstGeom prst="straightConnector1">
            <a:avLst/>
          </a:prstGeom>
          <a:ln w="38160"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064" name="TextBox 34"/>
          <p:cNvSpPr/>
          <p:nvPr/>
        </p:nvSpPr>
        <p:spPr>
          <a:xfrm>
            <a:off x="150840" y="5070600"/>
            <a:ext cx="36432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小于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，把它和右面的数全舍去，改写成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35"/>
          <p:cNvSpPr/>
          <p:nvPr/>
        </p:nvSpPr>
        <p:spPr>
          <a:xfrm>
            <a:off x="4143240" y="5010120"/>
            <a:ext cx="378144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大于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，向前一位进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，再把它和右面的数全舍去，改写成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47126"/>
          <p:cNvSpPr/>
          <p:nvPr/>
        </p:nvSpPr>
        <p:spPr>
          <a:xfrm>
            <a:off x="1905840" y="4000680"/>
            <a:ext cx="11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47127"/>
          <p:cNvSpPr/>
          <p:nvPr/>
        </p:nvSpPr>
        <p:spPr>
          <a:xfrm>
            <a:off x="5857560" y="400068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9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47128"/>
          <p:cNvSpPr/>
          <p:nvPr/>
        </p:nvSpPr>
        <p:spPr>
          <a:xfrm>
            <a:off x="3001680" y="40006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47129"/>
          <p:cNvSpPr/>
          <p:nvPr/>
        </p:nvSpPr>
        <p:spPr>
          <a:xfrm>
            <a:off x="7346880" y="4000680"/>
            <a:ext cx="12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3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组合 38"/>
          <p:cNvGrpSpPr/>
          <p:nvPr/>
        </p:nvGrpSpPr>
        <p:grpSpPr>
          <a:xfrm>
            <a:off x="366840" y="809640"/>
            <a:ext cx="2147400" cy="459720"/>
            <a:chOff x="366840" y="809640"/>
            <a:chExt cx="2147400" cy="459720"/>
          </a:xfrm>
        </p:grpSpPr>
        <p:sp>
          <p:nvSpPr>
            <p:cNvPr id="1071" name="TextBox 3"/>
            <p:cNvSpPr/>
            <p:nvPr/>
          </p:nvSpPr>
          <p:spPr>
            <a:xfrm>
              <a:off x="471240" y="809640"/>
              <a:ext cx="20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b0f0"/>
                  </a:solidFill>
                  <a:latin typeface="Arial"/>
                  <a:ea typeface="宋体"/>
                </a:rPr>
                <a:t>解法探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缺角矩形 40"/>
            <p:cNvSpPr/>
            <p:nvPr/>
          </p:nvSpPr>
          <p:spPr>
            <a:xfrm>
              <a:off x="366840" y="930240"/>
              <a:ext cx="215640" cy="215640"/>
            </a:xfrm>
            <a:custGeom>
              <a:avLst/>
              <a:gdLst>
                <a:gd name="textAreaLeft" fmla="*/ 25200 w 215640"/>
                <a:gd name="textAreaRight" fmla="*/ 190440 w 215640"/>
                <a:gd name="textAreaTop" fmla="*/ 25200 h 215640"/>
                <a:gd name="textAreaBottom" fmla="*/ 190440 h 21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000" y="21600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文本框 1"/>
          <p:cNvSpPr/>
          <p:nvPr/>
        </p:nvSpPr>
        <p:spPr>
          <a:xfrm>
            <a:off x="631800" y="1128600"/>
            <a:ext cx="81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求一个数的近似数，要看省略的尾数部分的最高位上的数小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还是等于或大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如果省略尾数部分的最高位上的数小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就把尾数舍去，然后添上相应的单位；如果省略的尾数部分的最高位上的数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或大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要向它的前一位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再把尾数舍去，然后添上相应的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图片 48129" descr="E:\2017秋上·黄倩\其他\人\海豚.jpg海豚"/>
          <p:cNvPicPr/>
          <p:nvPr/>
        </p:nvPicPr>
        <p:blipFill>
          <a:blip r:embed="rId1"/>
          <a:stretch/>
        </p:blipFill>
        <p:spPr>
          <a:xfrm>
            <a:off x="1963800" y="1800360"/>
            <a:ext cx="901800" cy="109512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2"/>
          <p:cNvSpPr/>
          <p:nvPr/>
        </p:nvSpPr>
        <p:spPr>
          <a:xfrm>
            <a:off x="380880" y="3429000"/>
            <a:ext cx="8425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  <a:ea typeface="宋体"/>
              </a:rPr>
              <a:t>小结：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宋体"/>
              </a:rPr>
              <a:t>要改写成以“万”作单位的数，就先要用“四舍五入”法求出这个数的整万的近似数，也就是将万后面的尾数“四舍五入”到万位。那么看千位，千位小于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宋体"/>
              </a:rPr>
              <a:t>，把它和右面的数全舍去，改写成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宋体"/>
              </a:rPr>
              <a:t>；千位等于或大于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宋体"/>
              </a:rPr>
              <a:t>，就要向前一位进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宋体"/>
              </a:rPr>
              <a:t>，再把它和右面的数全舍去，改写成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宋体"/>
              </a:rPr>
              <a:t>。然后再改写成用“万”作单位的数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48131"/>
          <p:cNvSpPr/>
          <p:nvPr/>
        </p:nvSpPr>
        <p:spPr>
          <a:xfrm>
            <a:off x="531720" y="838080"/>
            <a:ext cx="336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这种求近似数的方法叫“四舍五入”法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48132"/>
          <p:cNvSpPr/>
          <p:nvPr/>
        </p:nvSpPr>
        <p:spPr>
          <a:xfrm>
            <a:off x="4343400" y="838080"/>
            <a:ext cx="4587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是“舍”还是“入”，要看省略的尾数部分的最高位上的数是小于</a:t>
            </a:r>
            <a:r>
              <a:rPr b="1" lang="en-US" sz="25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还是等于或大于</a:t>
            </a:r>
            <a:r>
              <a:rPr b="1" lang="en-US" sz="25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5</a:t>
            </a:r>
            <a:r>
              <a:rPr b="1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8" name="图片 48133" descr="E:\2017秋上·黄倩\其他\人\蜜蜂.gif蜜蜂"/>
          <p:cNvPicPr/>
          <p:nvPr/>
        </p:nvPicPr>
        <p:blipFill>
          <a:blip r:embed="rId2"/>
          <a:stretch/>
        </p:blipFill>
        <p:spPr>
          <a:xfrm>
            <a:off x="5654520" y="2173320"/>
            <a:ext cx="933480" cy="1027080"/>
          </a:xfrm>
          <a:prstGeom prst="rect">
            <a:avLst/>
          </a:prstGeom>
          <a:ln w="0">
            <a:noFill/>
          </a:ln>
        </p:spPr>
      </p:pic>
      <p:sp>
        <p:nvSpPr>
          <p:cNvPr id="1079" name="圆角矩形标注 48134"/>
          <p:cNvSpPr/>
          <p:nvPr/>
        </p:nvSpPr>
        <p:spPr>
          <a:xfrm>
            <a:off x="457200" y="838080"/>
            <a:ext cx="3198960" cy="839880"/>
          </a:xfrm>
          <a:prstGeom prst="wedgeRoundRectCallout">
            <a:avLst>
              <a:gd name="adj1" fmla="val -2851"/>
              <a:gd name="adj2" fmla="val 7419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圆角矩形标注 48135"/>
          <p:cNvSpPr/>
          <p:nvPr/>
        </p:nvSpPr>
        <p:spPr>
          <a:xfrm>
            <a:off x="4359240" y="838080"/>
            <a:ext cx="4343400" cy="1219320"/>
          </a:xfrm>
          <a:prstGeom prst="wedgeRoundRectCallout">
            <a:avLst>
              <a:gd name="adj1" fmla="val 2157"/>
              <a:gd name="adj2" fmla="val 6796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8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2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99"/>
          <p:cNvSpPr/>
          <p:nvPr/>
        </p:nvSpPr>
        <p:spPr>
          <a:xfrm>
            <a:off x="349200" y="738360"/>
            <a:ext cx="8345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选择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 8167000≈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16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万 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17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万  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万   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8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三个数中，（     ）可以约等于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99900        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01000       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09923     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00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最接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2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万的数是（  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249999        B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259999      C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255000      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2590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1"/>
          <p:cNvSpPr/>
          <p:nvPr/>
        </p:nvSpPr>
        <p:spPr>
          <a:xfrm>
            <a:off x="2476440" y="1328760"/>
            <a:ext cx="4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2"/>
          <p:cNvSpPr/>
          <p:nvPr/>
        </p:nvSpPr>
        <p:spPr>
          <a:xfrm>
            <a:off x="2905200" y="2233440"/>
            <a:ext cx="4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3"/>
          <p:cNvSpPr/>
          <p:nvPr/>
        </p:nvSpPr>
        <p:spPr>
          <a:xfrm>
            <a:off x="3402000" y="3138480"/>
            <a:ext cx="4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8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32"/>
          <p:cNvSpPr/>
          <p:nvPr/>
        </p:nvSpPr>
        <p:spPr>
          <a:xfrm>
            <a:off x="123840" y="800280"/>
            <a:ext cx="8448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如果一个数不是整万的数，改写成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万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作单位的数时，要把万位后面的数省略，利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四舍五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法求出它的近似数。由于近似数不是准确数，所以不能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号连接，要用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≈”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连接。如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60800 ≈ 5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万，这里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6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万是一个近似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9T07:51:00Z</dcterms:created>
  <dc:creator/>
  <dc:description/>
  <dc:language>en-US</dc:language>
  <cp:lastModifiedBy>万润仪器贸易公司</cp:lastModifiedBy>
  <dcterms:modified xsi:type="dcterms:W3CDTF">2020-08-21T08:52:06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